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3CB4-50EE-4535-932A-28C7B828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E8A2-D7B4-411F-84D5-73EEBA71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68FE-34D3-4E11-9DB3-B2B726C4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75B6-43A7-4482-92B7-FF027CBFA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7F7A-DDB1-4F9C-BA34-78989816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4323-6420-42A0-8A4C-8AAF8282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F4F5-2630-4A0F-A9D7-69EAF663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7BF3-3128-4C63-8399-52B0A23C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B178-44ED-4BFB-979E-F3E789FB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344F-FDF6-4F0D-8CE9-F645F465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7B62-A001-4D36-8EF3-E7B3E4DA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4E61-34D0-4CB7-B16A-B28DFA4E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A04C-9366-428F-A400-529A65EF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4C59-CEF3-47B9-9E9E-B4F29612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F156-177C-4CB9-AED7-4C656EB7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DB2B-461B-450B-8208-7B0F31A25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E36F-258F-41A3-AA59-A659A4D0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EEF7-F6BD-4866-BA91-59A46BEB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C506-2A53-4148-A072-74B6DABF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5590-B663-4D92-898C-B3AFB678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379D-C5F8-416E-AD07-22149118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71BC-980E-4842-9859-B68B18A5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3FA4-D01B-452E-B0B2-2F379F1E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AD3F-10E4-488E-B15A-2FE9BC6E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3BE7-A846-43DA-A477-6E0C8623A4E7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B6EA-38C1-4774-AA04-6A8264DF5C3C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7d47d"/>
                </a:solidFill>
                <a:latin typeface="Arial"/>
              </a:rPr>
              <a:t>ALTE ROMANE  REALISTE INTERBELICE</a:t>
            </a:r>
            <a:endParaRPr b="0" lang="en-US" sz="1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836360" y="4021200"/>
            <a:ext cx="5745240" cy="10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2f1311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2f1311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2f1311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7d47d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7d47d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7d47d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f7d47d"/>
                </a:solidFill>
                <a:latin typeface="Arial"/>
              </a:rPr>
              <a:t>Examenul de bacalaureat 2012</a:t>
            </a:r>
            <a:br>
              <a:rPr sz="900"/>
            </a:br>
            <a:r>
              <a:rPr b="0" lang="ro-RO" sz="900" spc="-1" strike="noStrike">
                <a:solidFill>
                  <a:srgbClr val="f7d47d"/>
                </a:solidFill>
                <a:latin typeface="Arial"/>
              </a:rPr>
              <a:t>Proba de evaluare a competenţelor digitale</a:t>
            </a:r>
            <a:r>
              <a:rPr b="0" lang="en-US" sz="900" spc="-1" strike="noStrike">
                <a:solidFill>
                  <a:srgbClr val="f7d47d"/>
                </a:solidFill>
                <a:latin typeface="Arial"/>
              </a:rPr>
              <a:t> – document de lucru</a:t>
            </a:r>
            <a:endParaRPr b="0" lang="en-US" sz="9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Picture 11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144792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2f1311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2f1311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7d47d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7d47d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7d47d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b3s3</cp:lastModifiedBy>
  <dcterms:modified xsi:type="dcterms:W3CDTF">2012-06-19T11:30:32Z</dcterms:modified>
  <cp:revision>24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